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4E7-F478-4FD4-A27D-A74BB299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29D-D0B5-41DD-B355-3BA08BE0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0BE-2B49-4DBE-AE38-E2ACB84C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AF9-BF58-40F8-B537-0B8F1CD8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8DB-C85D-4F99-9581-BBC1FA80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C49-2D85-4BE7-8089-B4D218B2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D46-76DA-4563-BFA2-C6BD3E16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0F1-F27A-459A-8885-BE5FED3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596-AA79-455A-B980-92C952E5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3C5-CD1D-4B05-A055-BEE06BA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1E8-F3C8-4779-9136-AA6245F7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1EE-53FC-4D06-AE83-8C957AC0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CC1D-FFD2-4430-BCBA-46D9F267F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80880" y="1295280"/>
            <a:ext cx="2362320" cy="60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成立危機應變小組與分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防疫資源準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資訊宣導與更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80880" y="2286000"/>
            <a:ext cx="2362320" cy="274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教職員工生進行健康自主管理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3300"/>
                </a:solidFill>
                <a:latin typeface="Times New Roman"/>
              </a:rPr>
              <a:t>肥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勤洗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3300"/>
                </a:solidFill>
                <a:latin typeface="Times New Roman"/>
              </a:rPr>
              <a:t>適當時機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戴口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量體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均衡飲食與充足睡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保持空氣流通，環境衛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少去公共場所、人群聚集、空氣不流通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少去疫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注意呼吸道衛生與咳嗽禮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由疫區回來，需健康自主管理並由相關單位追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與個案有密切接觸史，需在家隔離，並自主健康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AutoShape 4"/>
          <p:cNvCxnSpPr>
            <a:stCxn id="41" idx="2"/>
            <a:endCxn id="42" idx="0"/>
          </p:cNvCxnSpPr>
          <p:nvPr/>
        </p:nvCxnSpPr>
        <p:spPr>
          <a:xfrm>
            <a:off x="1562040" y="1905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AutoShape 5"/>
          <p:cNvSpPr/>
          <p:nvPr/>
        </p:nvSpPr>
        <p:spPr>
          <a:xfrm>
            <a:off x="3124080" y="2476440"/>
            <a:ext cx="3124440" cy="2362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發燒（</a:t>
            </a: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zh-TW" sz="1200" spc="-1" strike="noStrike">
                <a:solidFill>
                  <a:srgbClr val="ff3300"/>
                </a:solidFill>
                <a:latin typeface="Times New Roman"/>
              </a:rPr>
              <a:t>耳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）及呼吸道症狀（喉嚨痛、 </a:t>
            </a:r>
            <a:r>
              <a:rPr b="0" lang="zh-TW" sz="1200" spc="-1" strike="noStrike">
                <a:solidFill>
                  <a:srgbClr val="ff3300"/>
                </a:solidFill>
                <a:latin typeface="Times New Roman"/>
              </a:rPr>
              <a:t>咳嗽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具有頭痛、肌肉酸痛、倦怠感，其中一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AutoShape 6"/>
          <p:cNvCxnSpPr>
            <a:stCxn id="42" idx="3"/>
            <a:endCxn id="44" idx="1"/>
          </p:cNvCxnSpPr>
          <p:nvPr/>
        </p:nvCxnSpPr>
        <p:spPr>
          <a:xfrm>
            <a:off x="2743200" y="365760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6" name="AutoShape 7"/>
          <p:cNvSpPr/>
          <p:nvPr/>
        </p:nvSpPr>
        <p:spPr>
          <a:xfrm>
            <a:off x="1447920" y="5410080"/>
            <a:ext cx="129528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一般疾病處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314880" y="5181480"/>
            <a:ext cx="2743200" cy="838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到過疫區或有接觸史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AutoShape 9"/>
          <p:cNvCxnSpPr>
            <a:stCxn id="44" idx="2"/>
            <a:endCxn id="47" idx="0"/>
          </p:cNvCxnSpPr>
          <p:nvPr/>
        </p:nvCxnSpPr>
        <p:spPr>
          <a:xfrm>
            <a:off x="4686480" y="4838760"/>
            <a:ext cx="360" cy="34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AutoShape 10"/>
          <p:cNvCxnSpPr>
            <a:stCxn id="47" idx="1"/>
            <a:endCxn id="46" idx="3"/>
          </p:cNvCxnSpPr>
          <p:nvPr/>
        </p:nvCxnSpPr>
        <p:spPr>
          <a:xfrm flipH="1">
            <a:off x="2743200" y="5600880"/>
            <a:ext cx="572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Text Box 11"/>
          <p:cNvSpPr/>
          <p:nvPr/>
        </p:nvSpPr>
        <p:spPr>
          <a:xfrm>
            <a:off x="2927520" y="5364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3695760" y="6324480"/>
            <a:ext cx="19810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戴口罩，至醫院就診，主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告知旅遊、接觸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3"/>
          <p:cNvCxnSpPr>
            <a:stCxn id="47" idx="2"/>
            <a:endCxn id="51" idx="0"/>
          </p:cNvCxnSpPr>
          <p:nvPr/>
        </p:nvCxnSpPr>
        <p:spPr>
          <a:xfrm>
            <a:off x="4686480" y="60199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AutoShape 14"/>
          <p:cNvSpPr/>
          <p:nvPr/>
        </p:nvSpPr>
        <p:spPr>
          <a:xfrm>
            <a:off x="3695760" y="7391520"/>
            <a:ext cx="1981080" cy="6858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醫院通報衛生局，通知學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校安中心或任何單位得知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案被診斷消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51" idx="2"/>
            <a:endCxn id="53" idx="0"/>
          </p:cNvCxnSpPr>
          <p:nvPr/>
        </p:nvCxnSpPr>
        <p:spPr>
          <a:xfrm>
            <a:off x="4686480" y="6858000"/>
            <a:ext cx="3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AutoShape 16"/>
          <p:cNvSpPr/>
          <p:nvPr/>
        </p:nvSpPr>
        <p:spPr>
          <a:xfrm>
            <a:off x="6019920" y="6210360"/>
            <a:ext cx="609480" cy="762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衛保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提供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AutoShape 17"/>
          <p:cNvCxnSpPr>
            <a:stCxn id="51" idx="3"/>
            <a:endCxn id="55" idx="1"/>
          </p:cNvCxnSpPr>
          <p:nvPr/>
        </p:nvCxnSpPr>
        <p:spPr>
          <a:xfrm>
            <a:off x="5676840" y="6591240"/>
            <a:ext cx="343440" cy="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7" name="AutoShape 18"/>
          <p:cNvSpPr/>
          <p:nvPr/>
        </p:nvSpPr>
        <p:spPr>
          <a:xfrm>
            <a:off x="762120" y="6286680"/>
            <a:ext cx="19810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以一般疾病處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去過疫區者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天自主健康管理過後解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762120" y="7467480"/>
            <a:ext cx="19810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聯繫衛保組，協同衛生局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同處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3645000" y="8408880"/>
            <a:ext cx="2095560" cy="1297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個案接受強制隔離治療（在家隔離或住院隔離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通報教育部校安中心，學校啟動危機應變小組會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Times New Roman"/>
              </a:rPr>
              <a:t>依疫情指揮中心公佈辦理停課事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統一對外發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1"/>
          <p:cNvSpPr/>
          <p:nvPr/>
        </p:nvSpPr>
        <p:spPr>
          <a:xfrm>
            <a:off x="907920" y="8410680"/>
            <a:ext cx="1981440" cy="129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追踨調查在個案發燒前一天與個案密切接觸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照護、同住、</a:t>
            </a:r>
            <a:r>
              <a:rPr b="0" lang="zh-TW" sz="1200" spc="-1" strike="noStrike">
                <a:solidFill>
                  <a:srgbClr val="ff0000"/>
                </a:solidFill>
                <a:latin typeface="Times New Roman"/>
              </a:rPr>
              <a:t>接觸到分泌物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，採在家隔離自主健康管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對在家隔離者追踨，不應出門、不上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724640" y="6019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AutoShape 23"/>
          <p:cNvCxnSpPr>
            <a:stCxn id="51" idx="1"/>
            <a:endCxn id="57" idx="3"/>
          </p:cNvCxnSpPr>
          <p:nvPr/>
        </p:nvCxnSpPr>
        <p:spPr>
          <a:xfrm flipH="1">
            <a:off x="2743200" y="6591240"/>
            <a:ext cx="95292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Text Box 24"/>
          <p:cNvSpPr/>
          <p:nvPr/>
        </p:nvSpPr>
        <p:spPr>
          <a:xfrm>
            <a:off x="2819520" y="6172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1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新型流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AutoShape 26"/>
          <p:cNvCxnSpPr>
            <a:stCxn id="53" idx="1"/>
            <a:endCxn id="58" idx="3"/>
          </p:cNvCxnSpPr>
          <p:nvPr/>
        </p:nvCxnSpPr>
        <p:spPr>
          <a:xfrm flipH="1" flipV="1">
            <a:off x="2743200" y="7734240"/>
            <a:ext cx="952920" cy="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65" name="AutoShape 27"/>
          <p:cNvCxnSpPr>
            <a:stCxn id="59" idx="1"/>
            <a:endCxn id="60" idx="3"/>
          </p:cNvCxnSpPr>
          <p:nvPr/>
        </p:nvCxnSpPr>
        <p:spPr>
          <a:xfrm flipH="1">
            <a:off x="2889360" y="9057600"/>
            <a:ext cx="75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28"/>
          <p:cNvCxnSpPr>
            <a:stCxn id="59" idx="1"/>
            <a:endCxn id="58" idx="3"/>
          </p:cNvCxnSpPr>
          <p:nvPr/>
        </p:nvCxnSpPr>
        <p:spPr>
          <a:xfrm flipH="1" flipV="1">
            <a:off x="2743200" y="7734240"/>
            <a:ext cx="902160" cy="1323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7" name="Text Box 29"/>
          <p:cNvSpPr/>
          <p:nvPr/>
        </p:nvSpPr>
        <p:spPr>
          <a:xfrm>
            <a:off x="888120" y="747720"/>
            <a:ext cx="51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年校園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1N1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新型流感應變處理作業流程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日 第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版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4775040" y="68580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新型流感之調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病例或確定病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AutoShape 31"/>
          <p:cNvCxnSpPr>
            <a:stCxn id="60" idx="1"/>
            <a:endCxn id="42" idx="1"/>
          </p:cNvCxnSpPr>
          <p:nvPr/>
        </p:nvCxnSpPr>
        <p:spPr>
          <a:xfrm rot="10800000">
            <a:off x="380880" y="3657600"/>
            <a:ext cx="527400" cy="5401080"/>
          </a:xfrm>
          <a:prstGeom prst="bentConnector3">
            <a:avLst>
              <a:gd name="adj1" fmla="val 143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AutoShape 33"/>
          <p:cNvSpPr/>
          <p:nvPr/>
        </p:nvSpPr>
        <p:spPr>
          <a:xfrm flipH="1">
            <a:off x="5790600" y="1419120"/>
            <a:ext cx="152280" cy="762120"/>
          </a:xfrm>
          <a:custGeom>
            <a:avLst/>
            <a:gdLst>
              <a:gd name="textAreaLeft" fmla="*/ 44280 w 152280"/>
              <a:gd name="textAreaRight" fmla="*/ 152280 w 15228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2893680" y="1484280"/>
            <a:ext cx="350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註：本作業流程將隨疫情變化而調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主要流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協同流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37339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6"/>
          <p:cNvSpPr/>
          <p:nvPr/>
        </p:nvSpPr>
        <p:spPr>
          <a:xfrm>
            <a:off x="3733920" y="20001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7"/>
          <p:cNvSpPr/>
          <p:nvPr/>
        </p:nvSpPr>
        <p:spPr>
          <a:xfrm>
            <a:off x="3362400" y="1428840"/>
            <a:ext cx="171360" cy="761760"/>
          </a:xfrm>
          <a:custGeom>
            <a:avLst/>
            <a:gdLst>
              <a:gd name="textAreaLeft" fmla="*/ 50400 w 171360"/>
              <a:gd name="textAreaRight" fmla="*/ 171720 w 1713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AutoShape 39"/>
          <p:cNvCxnSpPr>
            <a:stCxn id="53" idx="2"/>
            <a:endCxn id="59" idx="0"/>
          </p:cNvCxnSpPr>
          <p:nvPr/>
        </p:nvCxnSpPr>
        <p:spPr>
          <a:xfrm>
            <a:off x="4686480" y="8077320"/>
            <a:ext cx="6840" cy="33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1:55:58Z</dcterms:created>
  <dc:creator>moejsmpc</dc:creator>
  <dc:description/>
  <dc:language>en-US</dc:language>
  <cp:lastModifiedBy>user</cp:lastModifiedBy>
  <dcterms:modified xsi:type="dcterms:W3CDTF">2009-08-30T05:14:39Z</dcterms:modified>
  <cp:revision>8</cp:revision>
  <dc:subject/>
  <dc:title>PowerPoint 簡報</dc:title>
</cp:coreProperties>
</file>