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3F4E-F4C1-467C-A4D3-22186D48C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CD6B-94C0-4D0E-902A-F289EB2C2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6BC9-060B-4850-AF9E-031703005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AFFB-804B-4E8F-BEA0-7F09C327A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9244-0183-4C6C-9AE6-8BFF5F651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52BA-86BC-49A2-B505-CA3F4E6B2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8682-0B92-4418-B667-E95E3F7BF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8E7D-793A-4248-9600-97D3A1523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849D-239F-4A4B-B9FC-1D066BB0D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F97B-C7F2-48F1-AB6F-DF6390974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30D2-BB9B-4109-B484-9B4099B84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F64A-D19C-48EA-9A3E-AEE403E98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2B931-25B0-4AC4-B763-4423D391E6AB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3300"/>
                </a:solidFill>
                <a:latin typeface="Arial"/>
                <a:ea typeface="標楷體"/>
              </a:rPr>
              <a:t>正向管教案例研討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306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3300"/>
                </a:solidFill>
                <a:latin typeface="Arial"/>
                <a:ea typeface="標楷體"/>
              </a:rPr>
              <a:t>關渡國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3300"/>
                </a:solidFill>
                <a:latin typeface="Arial"/>
                <a:ea typeface="標楷體"/>
              </a:rPr>
              <a:t>李寶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3300"/>
                </a:solidFill>
                <a:latin typeface="Times New Roman"/>
                <a:ea typeface="標楷體"/>
              </a:rPr>
              <a:t>201008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3300"/>
                </a:solidFill>
                <a:latin typeface="Arial"/>
                <a:ea typeface="標楷體"/>
              </a:rPr>
              <a:t>正向管教案例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一封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e-mail: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校長近期是否曾遺失過什麼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3300"/>
                </a:solidFill>
                <a:latin typeface="Arial"/>
                <a:ea typeface="標楷體"/>
              </a:rPr>
              <a:t>正向管教案例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有關丙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OO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霸凌事件之導師責任分析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密件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3300"/>
                </a:solidFill>
                <a:latin typeface="Arial"/>
                <a:ea typeface="標楷體"/>
              </a:rPr>
              <a:t>正向管教案例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校園安全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校長妳好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: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 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 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我是一年○班的學生家長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,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上禮拜發生了一件覺得不能諒解的事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,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我的小孩在第四節上課中感到肚子痛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,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一直忍耐到第四節下課也就是放學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,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跟級任導師講肚子痛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,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老師竟然說去找安親班老師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,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這樣推皮球心態很要不得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,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萬一學生是腹膜炎緊急是會出人命的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,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老師應該帶去保健室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,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或是跟安親班老師講一聲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,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因為安親班老師等學生到就會馬上出發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,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結果小孩就一直痛到安親班教室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,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希望老師和學校一定要重視學生的生命安全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,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不可輕忽安全重要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3300"/>
                </a:solidFill>
                <a:latin typeface="Arial"/>
                <a:ea typeface="標楷體"/>
              </a:rPr>
              <a:t>正向管教案例七（續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學生心臟病發，家長認為體育老師沒有處理，學生回家時已經缺氧，家長緊急送醫，學生已畢業的姊姊以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e-mail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向校長嗆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體育老師要求游泳課的學習水準，學生出現肌肉酸痛的情形，家長向議員投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家長來校投訴，妻子來接小孩時，暈倒在校門口，小孩進學校來要求打電話給爸爸被刁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3300"/>
                </a:solidFill>
                <a:latin typeface="Arial"/>
                <a:ea typeface="標楷體"/>
              </a:rPr>
              <a:t>正向管教案例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家長離婚，監護權共有，媽媽已婚後住在文山區，要將學生轉學，父親請民代出面阻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家長離婚互控，法院來函要學校提供某年月日的出席記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學生出養，卻未完成收養手續，導師發現學生有被虐情形，報家暴處理，社工出面後，養母棄養，生母帶回小孩，兩家因撫養費互控，法院傳喚導師、註冊組、輔導主任出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3300"/>
                </a:solidFill>
                <a:latin typeface="Arial"/>
                <a:ea typeface="標楷體"/>
              </a:rPr>
              <a:t>正向管教案例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自己打自己的老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像貞子的老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一直罵人的老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一直打人的老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3300"/>
                </a:solidFill>
                <a:latin typeface="Arial"/>
                <a:ea typeface="標楷體"/>
              </a:rPr>
              <a:t>正向管教案例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模範生不模範，禮儀楷模不楷模時……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3300"/>
                </a:solidFill>
                <a:latin typeface="Arial"/>
                <a:ea typeface="標楷體"/>
              </a:rPr>
              <a:t>正向管教應有的基本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專業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價值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人權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法治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兒童保護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整體系統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3300"/>
                </a:solidFill>
                <a:latin typeface="Arial"/>
                <a:ea typeface="標楷體"/>
              </a:rPr>
              <a:t>正向管教的支持環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正向典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正向媒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正向領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正向情緒管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民主價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3300"/>
                </a:solidFill>
                <a:latin typeface="Arial"/>
                <a:ea typeface="標楷體"/>
              </a:rPr>
              <a:t>堅持正確的觀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3300"/>
                </a:solidFill>
                <a:latin typeface="Arial"/>
                <a:ea typeface="標楷體"/>
              </a:rPr>
              <a:t>營造正向的環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3300"/>
                </a:solidFill>
                <a:latin typeface="Arial"/>
                <a:ea typeface="標楷體"/>
              </a:rPr>
              <a:t>貢獻一己之力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3300"/>
                </a:solidFill>
                <a:latin typeface="Arial"/>
                <a:ea typeface="標楷體"/>
              </a:rPr>
              <a:t>發揮行政的效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3300"/>
                </a:solidFill>
                <a:latin typeface="Arial"/>
                <a:ea typeface="標楷體"/>
              </a:rPr>
              <a:t>正向管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3300"/>
                </a:solidFill>
                <a:latin typeface="Arial"/>
                <a:ea typeface="標楷體"/>
              </a:rPr>
              <a:t>正向管教定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教育部推動校園正向管教工作計畫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(2007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3300"/>
                </a:solidFill>
                <a:latin typeface="標楷體"/>
                <a:ea typeface="標楷體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正向管教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(positive discipline)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，指的是以正向的態度與方法來指導學生，協助他與別人建立健康和諧的關係。（王金國，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2009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3300"/>
                </a:solidFill>
                <a:latin typeface="Arial"/>
                <a:ea typeface="標楷體"/>
              </a:rPr>
              <a:t>謝謝大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3300"/>
                </a:solidFill>
                <a:latin typeface="Arial"/>
                <a:ea typeface="標楷體"/>
              </a:rPr>
              <a:t>敬請指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3300"/>
                </a:solidFill>
                <a:latin typeface="Arial"/>
                <a:ea typeface="標楷體"/>
              </a:rPr>
              <a:t>誰應具備正向管教知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691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家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教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廣義的教育人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兒童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成年人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警政人員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3300"/>
                </a:solidFill>
                <a:latin typeface="Arial"/>
                <a:ea typeface="標楷體"/>
              </a:rPr>
              <a:t>在哪裡實施正向管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5640" y="1989000"/>
            <a:ext cx="676908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時間的選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空間的限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3300"/>
                </a:solidFill>
                <a:latin typeface="Arial"/>
                <a:ea typeface="標楷體"/>
              </a:rPr>
              <a:t>正向管教案例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TO: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李校長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關於貴校學生隨手按電鈴造成莫大困擾反應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校長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,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您好：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 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我們是中央北路的住戶，貴校的學生實在是造成我們住戶的不便，每到放學時間，學生只要經過門口 總是會隨手按電鈴 造成莫大的困擾，請您協助幫忙宣導改善，以維護鄰里秩序，謝謝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4000" y="1052280"/>
            <a:ext cx="800244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敬啟者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一、信件已經轉給訓導處處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二、中央北路有兩側，也很長，只是在朝會提醒      學生，效果不大，請告知貴處為何地？幾號到幾號之間？幾巷到幾巷？以便知道在哪裡觀察學生行為，確定犯錯學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三、請貴處之管理委員會加強瞭解，若確定是本校學生，請告知其特徵或姓名性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四、過去從未接到類似投訴，但有案例是別的學校學生被誤為本校學生的情形，所以要確定是否為本校學生，故請務必提供相關資訊，否則資訊有誤，造成誤會，更加難堪，對大家都不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00000" y="404640"/>
            <a:ext cx="67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3300"/>
                </a:solidFill>
                <a:latin typeface="Arial"/>
                <a:ea typeface="標楷體"/>
              </a:rPr>
              <a:t>正向管教案例一回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3300"/>
                </a:solidFill>
                <a:latin typeface="Arial"/>
                <a:ea typeface="標楷體"/>
              </a:rPr>
              <a:t>正向管教案例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學生甲跟乙在社區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A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家長家把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A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先生的爵士鼓弄破了，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A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先生跟甲、乙的家長說，學校要他們賠一千元，甲的爺爺拿了一千元來訓導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3300"/>
                </a:solidFill>
                <a:latin typeface="Arial"/>
                <a:ea typeface="標楷體"/>
              </a:rPr>
              <a:t>正向管教案例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社區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7-11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老闆向輔導主任反應，有本校學生偷竊，並有錄影為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社區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7-11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店員逮到某校學生偷竊，把學生關在倉庫，打電話給訓導主任，訓導主任去店裡帶人回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3300"/>
                </a:solidFill>
                <a:latin typeface="Arial"/>
                <a:ea typeface="標楷體"/>
              </a:rPr>
              <a:t>正向管教案例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有民眾打電話來表示，本校學生搭公車往返八里時，會戲弄欺侮一位弱智的女性乘客，校長承諾調查，結果是這位患有精神病的乘客，經常拿雨傘打本校學生，學生反擊，引起家屬不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5T14:34:42Z</dcterms:created>
  <dc:creator>paoling</dc:creator>
  <dc:description/>
  <dc:language>en-US</dc:language>
  <cp:lastModifiedBy>user</cp:lastModifiedBy>
  <dcterms:modified xsi:type="dcterms:W3CDTF">2010-07-13T03:29:49Z</dcterms:modified>
  <cp:revision>41</cp:revision>
  <dc:subject/>
  <dc:title>正向管教案例研討 </dc:title>
</cp:coreProperties>
</file>