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D86-44F6-47E2-A293-0E843912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E17-7AF8-4957-AE79-EFCEDDDD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B7D-AC2F-4D49-AB2F-C744B582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8EF-DD90-4B1B-9A22-6EE4BBBE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1A26-3B86-48D6-B637-3D61A311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2165-887C-48CD-8E4E-6298E9E8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FA52-A424-460B-A991-4D2A831D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767B-37D5-4734-8678-F443DDF8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59C0-966E-4EE3-8C4F-52D71DEF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6B28-687B-48B7-8035-1996BEDE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148C-649D-426D-845B-36EF6538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202-3BC6-4794-B1D0-0A6BB10B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A1C6-F404-4932-89A1-4E1747B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0BA3-7402-4DC0-8761-04ABCE40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B112-B75C-4C5B-A621-950D2229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2BC1-B7C2-45FC-9B85-520970C1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44C2-7645-4F59-8097-83375476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0B7-2759-440B-8CC9-2901A32F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940-6743-4DA0-9ED9-FD45C14F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D4D-9BD3-46EA-AADE-09CEC7C1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B2A-86C3-4977-B7D3-B303B1D9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51F-CCC9-4A1C-89C9-77A9E667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C5C-1E72-41CB-96CF-AE40C3A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1AE-403B-4E3F-B322-D9979C31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91D2-31BB-484E-AC83-C4C1726B6F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3038-1F11-404E-B85C-6B630EF8BB7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04920" y="1219320"/>
            <a:ext cx="861048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Times New Roman"/>
                <a:ea typeface="文鼎粗魏碑"/>
              </a:rPr>
              <a:t>臺北市中小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Times New Roman"/>
                <a:ea typeface="文鼎粗魏碑"/>
              </a:rPr>
              <a:t> </a:t>
            </a:r>
            <a:r>
              <a:rPr b="0" lang="zh-TW" sz="4000" spc="-1" strike="noStrike">
                <a:solidFill>
                  <a:srgbClr val="ff0000"/>
                </a:solidFill>
                <a:latin typeface="Times New Roman"/>
                <a:ea typeface="文鼎粗魏碑"/>
              </a:rPr>
              <a:t>人權教育推動現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7200" y="3352680"/>
            <a:ext cx="7924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b812f"/>
                </a:solidFill>
                <a:latin typeface="標楷體"/>
                <a:ea typeface="標楷體"/>
              </a:rPr>
              <a:t>臺北市指南國民小學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</a:t>
            </a:r>
            <a:r>
              <a:rPr b="0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校長 林松金</a:t>
            </a:r>
            <a:r>
              <a:rPr b="0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990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042920" y="1125360"/>
            <a:ext cx="74390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文鼎粗魏碑"/>
                <a:ea typeface="文鼎粗魏碑"/>
              </a:rPr>
              <a:t>伍、台北市人權教育的回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（一）、從試探的觀點：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台北市極力倡導人權教育，有相當豐富的初步成果，要能在不斷的再成長中力求更精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（二）、從回饋的觀點：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阻礙人權教育推動的因素仍然不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例如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師及家長消極的看待、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對權利的概念認知不清、不願意正視學生權利及師生關係、仍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受傳統倫理道德束縛等等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，以致不利於人權教育的發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16000" y="907920"/>
            <a:ext cx="7219800" cy="32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（三）、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台北市人權教育的展望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台北市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推動人權教育從單一式融入教學，到定時教學、融入教學、親師研習、學生活動、行動研究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等的多元的教育活動，的確有顯著的成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基於績效和進步的觀點，今後應加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增進教師專業的人權素養：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教師應參加人權教育相關研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營造多元尊重的友善校園：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讓校園有活潑、有禮、有序、包容、欣賞、尊重他人的氣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規劃人權教育課程重點：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確實引導學生人權知能，培養穩健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成熟之現代公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建立尊重人權的行政體系：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學校行政系統要成為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服務、保護、支持、協助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學生的友善機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兒童人權案例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臺灣花蓮地方法院 判決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61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裁判案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國家賠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臺灣花蓮地方法院民事判決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年度國字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原告　  乙○○（學生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被告　花蓮縣秀林鄉佳民國民小學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主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被告應給付原告乙○○新台幣壹佰玖拾參萬柒仟捌佰柒拾捌元及自民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日起至清償日止，按年息百分之五計算之利息。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原告主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師楊○貞將原告乙生、顏姓學生及其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名同學於放學時留校打掃，楊○貞導師因擔任導護工作不在現場，顏姓同學以重物丟擲乙生，不慎擊中原告乙生右眼，經診斷為外傷性破裂，術後併眼球萎縮，而接受眼球摘除手術，原告乙生右眼失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原告乙生依國家賠償法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條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項後段、民法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條規定，請求被告負賠償責任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被告主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本件事故之發生係因原告乙生與顏姓同學間之衝突及過失行為所致，縱然楊師於事發時在場，不一定能及時阻止事故之發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楊師係依校方規定輪值放學導護工作，其離開事故現場係為執行其他學校分派之職務，並非放任不管的意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法院之認定判斷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公務員於執行職務行使公權力時，因故意或過失不法侵害人民自由或權利者，國家應負損害賠償責任。公務員怠於執行職務，致人民自由或權利遭受損害者亦同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乙生等於案發時僅為國小五年級學生，年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歲，放學後既係因導師楊淑貞之指示而留校，教師自應就留校學生之安全負保護監督指導之責，縱楊師係因輪值交通導護工作而必須離開現場，仍應循其他途徑確保學生留校之安全，而不應讓學生未受任何監管保護，故楊師違反對學生之保護義務，自屬怠於執行職務。況當時楊師如留於現場，當可避免此次事故之發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法院之認定判斷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故意或過失，不法侵害他人之權利者，負損害賠償責任。不法侵害他人之身體或健康者，對於被害人因此喪失或減少勞動能力或增加生活上之需要時，應負損害賠償責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法侵害他人之身體、健康、名譽、自由、信用、隱私、貞操，或其他人格法益而情節重大者，被害人雖非財產上之損害，亦得請求賠償相當之金額。 （慰撫金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結語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兒童人權之保障，就法令規定觀之，從憲法、民法、教育基本法、兒童及少年福利法等相關法律規定詳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另教師輔導與管教學生辦法，對於執行輔導管教措施也有些原則性和技術性之規範，教師在進行教育活動時，要符合教育的目的性思考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28600" y="533520"/>
            <a:ext cx="83818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文鼎粗魏碑"/>
                <a:ea typeface="文鼎粗魏碑"/>
              </a:rPr>
              <a:t>   </a:t>
            </a:r>
            <a:r>
              <a:rPr b="0" lang="zh-TW" sz="5400" spc="-1" strike="noStrike">
                <a:solidFill>
                  <a:srgbClr val="ff0000"/>
                </a:solidFill>
                <a:latin typeface="文鼎粗魏碑"/>
                <a:ea typeface="文鼎粗魏碑"/>
              </a:rPr>
              <a:t>謝謝聆聽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文鼎粗魏碑"/>
              </a:rPr>
              <a:t>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文鼎粗魏碑"/>
                <a:ea typeface="文鼎粗魏碑"/>
              </a:rPr>
              <a:t>      </a:t>
            </a:r>
            <a:r>
              <a:rPr b="0" lang="zh-TW" sz="5400" spc="-1" strike="noStrike">
                <a:solidFill>
                  <a:srgbClr val="ff0000"/>
                </a:solidFill>
                <a:latin typeface="文鼎粗魏碑"/>
                <a:ea typeface="文鼎粗魏碑"/>
              </a:rPr>
              <a:t>敬請指教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文鼎粗魏碑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457200" y="533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057400" y="6858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57200" y="1143000"/>
            <a:ext cx="8458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Times New Roman"/>
                <a:ea typeface="文鼎粗魏碑"/>
              </a:rPr>
              <a:t>壹、台北市推動人權教育的理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b812f"/>
                </a:solidFill>
                <a:latin typeface="Times New Roman"/>
                <a:ea typeface="標楷體"/>
              </a:rPr>
              <a:t>一、推動人權教育之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  <a:ea typeface="標楷體"/>
              </a:rPr>
              <a:t>1</a:t>
            </a:r>
            <a:r>
              <a:rPr b="1" lang="zh-TW" sz="3600" spc="-1" strike="noStrike">
                <a:solidFill>
                  <a:srgbClr val="cc00ff"/>
                </a:solidFill>
                <a:latin typeface="Times New Roman"/>
                <a:ea typeface="標楷體"/>
              </a:rPr>
              <a:t>、人權立國是我國國策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ff"/>
                </a:solidFill>
                <a:latin typeface="Times New Roman"/>
                <a:ea typeface="標楷體"/>
              </a:rPr>
              <a:t>    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  <a:ea typeface="標楷體"/>
              </a:rPr>
              <a:t>2</a:t>
            </a:r>
            <a:r>
              <a:rPr b="1" lang="zh-TW" sz="3600" spc="-1" strike="noStrike">
                <a:solidFill>
                  <a:srgbClr val="cc00ff"/>
                </a:solidFill>
                <a:latin typeface="Times New Roman"/>
                <a:ea typeface="標楷體"/>
              </a:rPr>
              <a:t>、國際人權教育的啟示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ff"/>
                </a:solidFill>
                <a:latin typeface="Times New Roman"/>
                <a:ea typeface="標楷體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304920" y="83808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人權立國是我國國策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</a:t>
            </a:r>
            <a:r>
              <a:rPr b="1" lang="en-US" sz="3200" spc="-1" strike="noStrike">
                <a:solidFill>
                  <a:srgbClr val="cc00ff"/>
                </a:solidFill>
                <a:latin typeface="Times New Roman"/>
                <a:ea typeface="標楷體"/>
              </a:rPr>
              <a:t>2000</a:t>
            </a:r>
            <a:r>
              <a:rPr b="1" lang="zh-TW" sz="3200" spc="-1" strike="noStrike">
                <a:solidFill>
                  <a:srgbClr val="cc00ff"/>
                </a:solidFill>
                <a:latin typeface="Times New Roman"/>
                <a:ea typeface="標楷體"/>
              </a:rPr>
              <a:t>年</a:t>
            </a:r>
            <a:r>
              <a:rPr b="1" lang="en-US" sz="3200" spc="-1" strike="noStrike">
                <a:solidFill>
                  <a:srgbClr val="cc00ff"/>
                </a:solidFill>
                <a:latin typeface="Times New Roman"/>
                <a:ea typeface="標楷體"/>
              </a:rPr>
              <a:t>5</a:t>
            </a:r>
            <a:r>
              <a:rPr b="1" lang="zh-TW" sz="3200" spc="-1" strike="noStrike">
                <a:solidFill>
                  <a:srgbClr val="cc00ff"/>
                </a:solidFill>
                <a:latin typeface="Times New Roman"/>
                <a:ea typeface="標楷體"/>
              </a:rPr>
              <a:t>月政府提出人權立國的願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  <a:ea typeface="標楷體"/>
              </a:rPr>
              <a:t>2002</a:t>
            </a:r>
            <a:r>
              <a:rPr b="1" lang="zh-TW" sz="3200" spc="-1" strike="noStrike">
                <a:solidFill>
                  <a:srgbClr val="cc00ff"/>
                </a:solidFill>
                <a:latin typeface="Times New Roman"/>
                <a:ea typeface="標楷體"/>
              </a:rPr>
              <a:t>年</a:t>
            </a:r>
            <a:r>
              <a:rPr b="1" lang="en-US" sz="3200" spc="-1" strike="noStrike">
                <a:solidFill>
                  <a:srgbClr val="cc00ff"/>
                </a:solidFill>
                <a:latin typeface="Times New Roman"/>
                <a:ea typeface="標楷體"/>
              </a:rPr>
              <a:t>2</a:t>
            </a:r>
            <a:r>
              <a:rPr b="1" lang="zh-TW" sz="3200" spc="-1" strike="noStrike">
                <a:solidFill>
                  <a:srgbClr val="cc00ff"/>
                </a:solidFill>
                <a:latin typeface="Times New Roman"/>
                <a:ea typeface="標楷體"/>
              </a:rPr>
              <a:t>月公佈國家人權政策白皮書，「人權保障與人權教育」成為我國當前的重要國策。白皮書第七章中揭櫫了我國人權教育與研究的努力方向。</a:t>
            </a:r>
            <a:r>
              <a:rPr b="0" lang="zh-TW" sz="32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457200" y="380880"/>
            <a:ext cx="8458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2  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、國際人權教育的啟示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聯合國將</a:t>
            </a:r>
            <a:r>
              <a:rPr b="1" lang="en-US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1995</a:t>
            </a:r>
            <a:r>
              <a:rPr b="1" lang="zh-TW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年至</a:t>
            </a:r>
            <a:r>
              <a:rPr b="1" lang="en-US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2004</a:t>
            </a:r>
            <a:r>
              <a:rPr b="1" lang="zh-TW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年定為推動人權教育的十年（</a:t>
            </a:r>
            <a:r>
              <a:rPr b="1" lang="en-US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The Decade of Human Rights Education</a:t>
            </a:r>
            <a:r>
              <a:rPr b="1" lang="zh-TW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）。我國也開始正視人權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2001</a:t>
            </a:r>
            <a:r>
              <a:rPr b="1" lang="zh-TW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年</a:t>
            </a:r>
            <a:r>
              <a:rPr b="1" lang="en-US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月教育部設「人權教育委員會」；同年</a:t>
            </a:r>
            <a:r>
              <a:rPr b="1" lang="en-US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6</a:t>
            </a:r>
            <a:r>
              <a:rPr b="1" lang="zh-TW" sz="3200" spc="-1" strike="noStrike">
                <a:solidFill>
                  <a:srgbClr val="cc00ff"/>
                </a:solidFill>
                <a:latin typeface="標楷體"/>
                <a:ea typeface="標楷體"/>
              </a:rPr>
              <a:t>月頒布「人權教育實施方案」，規劃人權教育之大政方針及具體的實施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28600" y="380880"/>
            <a:ext cx="8458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ff"/>
                </a:solidFill>
                <a:latin typeface="Times New Roman"/>
                <a:ea typeface="文鼎粗魏碑"/>
              </a:rPr>
              <a:t>二、台北市推動人權教育的作法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人權保障的政策宣示與行動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    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台北市人權保障白皮書的制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人權教育的實際規劃與推動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     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教育局成立人權教育專案小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國家人權政策的配合與實施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    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人權教育在學校的深耕與推廣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4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人權教育的多元與全方推廣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     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理論探索與教學實務相輔相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5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教師在人權教育專業的成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         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人權教學與人權素養教學相長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838080" y="304920"/>
            <a:ext cx="7315200" cy="60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6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家長在人權教育的深切體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       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親職教育與親師溝通相互成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學生對基本人權的認知成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      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學生自治與人權教學並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8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人權教育在學校課程的落實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       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人權教育融入領域教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9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學術社群對人權教育的探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      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學術機構對各級學校支援輔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人權教育團體對學校的支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        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民間團體投入學校與社會教育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228600" y="3808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文鼎粗魏碑"/>
              </a:rPr>
              <a:t>貳、台北市人權教育推動現況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一、人權保障的政策宣示與推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       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台北市在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2002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12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月頒布「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台北市人權保障白皮書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」，開國內地方政府風氣之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       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在人權教育方面指出：「人權教育的目的不僅是為了宣導人權理念，並且是為了實踐人權，期盼透過人權教育，使市民了解人權的理念及重要性，進而培育其尊重人權的品格，將有助社會安定、人民和諧、國家更為民主。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       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在對策與具體作法方面，則提出「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推動學校民主法治教育，加強學生民主法治觀念、培養有關人權事務之專業人才與師資、編印人權教育課程及教材、辦理人權教育宣導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」等作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04920" y="685800"/>
            <a:ext cx="8610480" cy="37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Times New Roman"/>
                <a:ea typeface="文鼎粗魏碑"/>
              </a:rPr>
              <a:t>二、人權教育的推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為推展人權教育持續推動下列活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cc00ff"/>
                </a:solidFill>
                <a:latin typeface="Times New Roman"/>
                <a:ea typeface="標楷體"/>
              </a:rPr>
              <a:t>舉辦人權研習活動：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辦理行政人員、教師及家長人權與法治研習會、工作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cc00ff"/>
                </a:solidFill>
                <a:latin typeface="Times New Roman"/>
                <a:ea typeface="標楷體"/>
              </a:rPr>
              <a:t>實施人權教學活動：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融入各學習領域課程中，實施定時教學、主題週活動、隨機教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cc00ff"/>
                </a:solidFill>
                <a:latin typeface="Times New Roman"/>
                <a:ea typeface="標楷體"/>
              </a:rPr>
              <a:t>充實人權課程教材：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研訂各校校本課程、融入各學習領域之教學設計、選用各類教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實施人權推廣活動：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學生人權高峰會、家長及社區人士人權法治宣導、教學觀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建置人權教育資源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建置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人權教育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課程及教學</a:t>
            </a:r>
            <a:r>
              <a:rPr b="0" lang="zh-TW" sz="28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、相關網站、專家學者資料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52280" y="228600"/>
            <a:ext cx="876312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6.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改善學校人權法治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落實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</a:rPr>
              <a:t>「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教師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輔導與管教辦法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」、 宣示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零體罰政策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」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、推動「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學生申訴制度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」、執行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家庭暴力防治法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」、「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兒童及少年福利法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」、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兒童及少年性交易防治條例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」等保護青少年相關法令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加強各校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無障礙設施及校園安全維護措施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7.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訪視各校人權成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 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配合校務評鑑及課程評鑑，各校先作自我評鑑，並由駐區督學或專案小組，至各校訪視或視導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8.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推動人權種子學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      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推動人權教育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種子學校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，協助各校推動業務，並積極向教育部爭取人權典範學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9.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學術機構對各級學校支援輔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委託市立師院及教師中心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,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辦理學術研討會及支援種子學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.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民間團體投入學校與社會教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和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中華扶輪社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民間司改會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及</a:t>
            </a:r>
            <a:r>
              <a:rPr b="0" lang="zh-TW" sz="2400" spc="-1" strike="noStrike">
                <a:solidFill>
                  <a:srgbClr val="cc00ff"/>
                </a:solidFill>
                <a:latin typeface="Times New Roman"/>
                <a:ea typeface="標楷體"/>
              </a:rPr>
              <a:t>台北律師公會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合作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,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協助學校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,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對教師家長及學生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,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實施人權法治教育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,</a:t>
            </a:r>
            <a:r>
              <a:rPr b="0" lang="zh-TW" sz="2400" spc="-1" strike="noStrike">
                <a:solidFill>
                  <a:srgbClr val="3b812f"/>
                </a:solidFill>
                <a:latin typeface="Times New Roman"/>
                <a:ea typeface="標楷體"/>
              </a:rPr>
              <a:t>並進行人權教育之教學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2:13:52Z</dcterms:created>
  <dc:creator>k</dc:creator>
  <dc:description/>
  <dc:language>en-US</dc:language>
  <cp:lastModifiedBy>kai0</cp:lastModifiedBy>
  <dcterms:modified xsi:type="dcterms:W3CDTF">2010-08-03T00:44:57Z</dcterms:modified>
  <cp:revision>65</cp:revision>
  <dc:subject/>
  <dc:title>PowerPoint 簡報</dc:title>
</cp:coreProperties>
</file>